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678-BDE0-4E98-875E-1B3D6C9F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198-AD8C-4888-9C51-55307988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A9F81-12DB-49B1-8968-BE652120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7BA53-DFC8-45AA-A5DC-DF12297C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EF68C-A6EB-4843-A711-106EE7A5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788DD-7F91-46C4-ADC5-D1B171E6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8F55A-640F-466F-ADEE-904B1B3F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2DA9A-EEC1-4D5E-BB8B-A9DD9EAA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004A2-7F8A-4FCD-A477-2F747158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A146F-FF7D-4C45-B493-CF803E64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D4C3E-F0E6-416F-8E0D-53C6D948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DD7D3-0042-40CF-82CF-E21E6009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4C45-BD3B-429A-B0B4-7E7C6DF4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75B27-0110-455D-A185-D690D02D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E0754-DFA1-4A8E-A3A6-AE8350F8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B934E-DF21-4856-B7E1-2163F881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F7658-7D67-4570-B231-E0EEBC14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13935-833E-4264-AB99-0AE568B0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BB3A2-D3FE-4EFA-B9C7-D3D8EBA3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72423-E83F-402E-BA05-AA4C7228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C2444-9065-48D5-ADCD-4F728F22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A983A-5F91-4880-A329-688484CF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1E263-4532-4DA1-8B8D-4168AF43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1A3-76BF-466A-AF70-540C83A8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7301F-6BBA-4E6E-8804-36974A17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EFDC9-06F5-45FF-9FEB-B056B1A7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25827-1A19-4E19-B075-4504EAE6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EA80F-1DFC-4E10-B306-A7D3BC50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9B028-0958-4743-97A6-E8E72C9E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89B9C-AD67-4AF3-905C-A88F9B46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B2A75-9A3D-4927-A739-1338DE84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93BB8-9CA9-4761-9BCF-76B80060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71BD6-7BA9-4A30-B7D9-EFEAF3FF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0486C-E878-4CCD-852D-D17CAFDC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72AB-ED82-4752-82E6-10B290B6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617E7-E4BF-4FF9-BC5E-130D873D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BD521-63AB-4B43-BF98-FA34C744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B70E0-16F5-4D76-9B9F-51067B45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45DC0-1A83-4BF4-9416-AF4156D4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803BB-166A-49EF-97FB-F9C86458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D7C91-E371-4A7D-84CB-768AB3BA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4CCBB-EEA8-42F0-BAE3-21F7BB09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81AC4-F3C3-4D6F-9239-0019D9EB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3FEC0-696F-412B-9AEB-ABA1A844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DD25C-1EF1-41C2-A357-731EB474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78EA-07E9-4BA9-9792-2926E2AE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78447-3400-47F7-BFA8-778888E3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5CA08-7332-46D1-A2C7-369E2FA8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11A05-A484-4824-9622-6D68F7E1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C78B7-0F1D-43B7-90C1-0A27DC24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145C4-4E6C-4F65-A36F-2F039CF5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54520-F8AA-4897-A1A9-5F8E09FF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8498C3-D2C8-46CC-8720-2C535D69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F6030D-341E-4D8C-92D6-A96A6427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04666-C355-418E-94D6-B5991C56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1F90FF-C2CC-4B7A-AA44-6720896D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41C4-140E-4FE6-BE20-F3410AEF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DDC81-0543-4A9A-B90B-BFAA151E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371D0D-A50B-4237-9BF1-1805A9A7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39095D-E8A6-420D-9370-359561E3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95CBB5-B02D-40C9-9816-BC6D345A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651654-75C4-492D-95E7-8020FD5B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164CC-B0E2-4B2B-9790-9CCAD76E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6F767-8313-4E70-AE39-EE47AC05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F8BB36-C98B-4AAE-8253-9085E2EB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447949-43F2-49CB-8E9A-68F855A7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91374E-6302-441E-A6F8-8617C046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26E0-5A72-42C5-ABC5-D721CD18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71FD9-BCBF-44D5-855C-E1088703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FB038-9F6F-494E-9B3C-B963790F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E8C6D-6337-42C2-A10B-CC753444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254399-5809-4D3B-A53E-37D6B5EA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FB1B7-1BBE-427B-BDFE-43FA919B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21301-C72B-4F31-87BE-8C2E4E61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F5818E-41BF-4103-98DD-C724E982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F136A-3250-47E8-9E30-65824383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F8E71-A488-4952-8547-FD4FEE0E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48587B-18F0-49FC-AB8C-05AE6693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7E95-D394-4CBE-A9EF-49F3B163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52A1DE-7F78-4D50-B36F-3395750F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639BE3-E7EB-4E1D-9138-F787735F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AF7170-3EE2-4CED-86B1-EB8B8193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C79EB-DB70-4F28-875E-7D362BE7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B18019-7FBA-4186-BBF5-E86971FC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39F80E-618E-4B67-9D94-E1C97B51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2C7345-33A3-472B-A576-42B4E371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D01A85-A23D-4D7E-90AF-407C52B4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7F9B60-1A93-447A-B7BF-65B1B7EC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FFAE13-96BD-445D-8E12-A135149F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1C1F-A760-4FA5-AFA5-4FDCD123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66209B-81D4-4588-AA25-83367201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EDF36-3962-466F-A048-D55B7460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0FB85C-14D9-4DE0-85BB-F8DD6B2D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20DCA1-8391-48DF-9A46-9E2EA128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6B00BA-2BAE-4005-8F86-5E27762E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A50AC4-0D80-4A25-9BD6-3BDADAB8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4053F4-8A53-42F2-9A96-BFF51D07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B4A16D-AECD-47C3-9CE2-1BA0B6BE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8DC9DF-0074-44BE-A738-11898FD2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DFDAEB-7744-46D0-B164-61DECBE7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7691-E99A-484C-8BC7-AEC65F33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94E87B-15C9-4722-A24E-5DC3C3B7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9A95B7-F38B-46C7-8CB8-3290E74A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B23714-15B3-4C61-AFBA-4993D24F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88CB12-7060-4516-BE93-94C656CA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FF4E13-BF2E-4E08-9FAB-82FD5357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352FFB-8A8F-4CAE-A9D5-8FB83092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BDF1CC-A509-49D5-9914-11514C50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D8FF75-DE6B-4E8A-8EC8-12B1BCE9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3EEB0C-6152-4534-9064-F49A1523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CE8578-6031-4EAC-A809-E30E0F98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87F6-F860-4790-B5AA-628EE642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2F28-12C4-4891-94DF-0611E6C3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E4DD14-2132-4B22-9F0D-244A64E4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BEA8D-35F2-495F-8CA1-79FF2771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CAFD8C-6CCA-43B4-B157-97A74B14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0606F0-8D32-46A5-91E2-CBA14FDD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D68B0F-94F4-4AAD-B648-90BC8BE6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5B577D-1DFA-4557-8BD0-08BA879C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D08B7F-4048-4CDF-9F96-2F1A81E3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B3366C-1DD3-465C-9000-4C986123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805E09-9074-48D4-B128-5A2446E9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512EDD-E270-4B8E-84BF-E2DFBF5F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9100-225A-466E-93B0-26424CE4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B5F2EC-67B9-4666-A87E-EC3153E8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7C5906-E85A-4C4F-A42C-525D2D5D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E55B36-2724-4C9F-B350-AF874C32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BF5250-9B96-4A43-9766-B458716F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3A5F85-8A1E-469B-958B-1C230164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8506D9-D436-4C1E-805A-6F4C7CF4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6AB8AB-EEBC-4E86-A12E-74320F19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49388E-E39C-4BAE-8309-9CA38237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43CB84-EB06-4DE9-901D-C9D4E199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8E077D-749B-4BE9-B3EB-AC594002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ECF1-5268-4CC2-987E-EA3710B7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4D8270-B0DE-40C9-A1AA-C6507E2B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7345FA-80D3-4262-A4CB-30A9F535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5B5B94-3593-428D-BFB3-53D2CC9B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6048E6-7905-44C3-BDFB-A943253B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CF5C98-E2DC-4731-9161-928E10AF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2B7478-3A55-404F-BF83-78D0A483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69F498-777D-4FE5-AB2C-29131091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6E620A-78A7-4F69-B33A-6BF37484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F30A2C-D9F2-4D40-B782-EB9D3CE1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31B27F-DF71-4FA6-8520-8D6C8A83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534A-2BDB-432D-8B65-5F8DF3B4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69A3FE-EFD5-4E2E-A393-C1FE70F2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06BBB0-E00B-477F-BC4F-3D9A1DF2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0AD3E9-A718-4B01-BF30-34BF4265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1DA985-9531-4323-9001-4343FBB7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F5B715-6BC3-47B0-9F93-3108B7ED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7EAF65-AE2C-47A3-9A16-4FE210FF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9E07C4-3712-49D5-A248-DF63C2FA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F1D80F-FCA2-4D3A-BEF1-E98B0DE2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072A2B-C5D8-4964-B3C8-F9C8E2BA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82EEF2-189D-4800-8C2B-5C196FE6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422B-F7DB-4055-8232-814018B0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AEFAE3-2DCB-4B22-9ACC-FDDDCE82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6020EC-B085-435A-A9AE-86915E77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3ECB31-97CF-48FD-A02C-BEEFC270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5DD45E-A897-403E-B1C0-6C3F1C67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419E63-F514-419F-912C-97547C8D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2022E4-03A8-4FB0-A98A-1AB5AF1F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434F52-819A-4D47-BB47-B593A67A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45365C-1FE4-46BB-BB13-0EE126C0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238F5D-3A81-41E0-B324-D5A755AE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8DEC78-4C7F-4745-9EDC-CD318336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1570B-5E86-4A15-8AAD-7344112D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2B2698-EFDE-4D0F-9775-ABF7EEE8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235236-F9F8-44A5-A0A2-4C439A76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61D67B-93CC-4E43-9250-63422D0A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6626E0-8FAF-468F-8D23-395FD8D9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BEB35A-39CD-42D9-AC3D-33196EC1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8EAF37-36D4-46E8-AC18-A9C58BE9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A6D103-AFE6-4EEF-A755-0A51C570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7280B5-C467-4A5D-B552-21B3FB80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BCA235-8A66-484A-A89D-65F4A918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7ED1DA-F462-49EA-A367-068CB939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D1B3A-3F08-45B3-90A5-E5D66691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811BE2-D2F5-4A40-A8CA-69BC94FD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358820-1EFF-4E43-94F0-84C62D3D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D434FD-507D-4004-B954-1B2F64F8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5F5FBF-9B0C-4909-8F84-E9272374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39391C-2F45-4F14-A5F7-AA679E19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5A8FDA-3892-4901-BB7D-DD94C83E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5F10DA-1535-42E5-A052-1B3A0D60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E8E5B4-5C34-45AB-A83D-1C421111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162299-070A-4392-B567-E1FF6A47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7B129D-B1C1-4BDE-AFE6-116C8D80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9FBCE-D770-490D-8ADB-A80E81C7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1FA04D-BA17-473C-AE4A-CF09440B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B0B602-A539-48EB-9539-AA5501B0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740CCC-67C3-4EF9-88DE-3D4BF018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DFEF82-7FB3-47F0-86B7-0F381A73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A6EA16-0304-4BB8-B910-ED683516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BD3640-FC15-4005-909F-5B6D6E2F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F2B38D-6015-483B-A409-2933C3CC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F33A3B-A612-435F-B5DD-163957A3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927BF2-E08B-4F19-B7C0-BFD7AE9D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1B0C30-92CF-4C79-922E-0E2E937F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9D767-7AD5-4456-BF94-0AB643A0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C01815-8ACD-42B3-BA3A-ACFF82B2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13B339-D3B1-44A9-AD3F-39DFC913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35B0E4-CAA3-4F17-9EA8-39606964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1FB284-B979-4B94-A73C-7AF9872D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05F135-CA02-45A2-A428-B8175393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34CA63-3178-4E7D-A009-47D4938F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E4574A-5899-4916-A9FB-C826AC9E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71D78F-F850-4793-92E8-00BADAFE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C6CF5E-6A92-47FE-96DC-0C9CC398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C7D153-E35A-4247-89E0-BE11A53E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9DA31-1D3C-4D34-8554-C87AE25D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675C8F-7F75-408B-90FC-94CE3F8D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C40EE1-7442-4DDF-A02B-E739C057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558011-905B-4186-8410-BDB3ACCB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5F3F7B-816A-4A8B-8294-ECE11D39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E7F1CB-CAAC-4D94-8803-376986BD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12FB52-90F3-4F51-AFC0-5E2B67C6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03F428-4384-45E3-ABA9-AA49A8C7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CB0B76-D6D3-4F77-8E47-B91C9DC5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3AADE1-470D-4599-B77C-478DF04F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9C330E-F8F8-4DEB-8CFE-2066315C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17E4-BB47-4E77-BAE6-06FC9784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0D2C8-9A5C-4D7F-A931-C49C47E5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F24565-937C-4D0E-8773-CB891E51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5759D4-A62B-4008-B576-4558F5C7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E5EB49-11E5-4816-B347-76E11F40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47C0FB-BBC8-4F4D-A15C-8331A297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1C45A4-E740-4D59-86E2-78288D91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F74AB3-D045-4890-B6EC-44DF541A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D4B7A0-520C-4B28-9D4E-9F4DE551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A7606B-B0D7-4184-AA88-6745F092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C396A0-3DDF-4B66-8B97-77A00571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71CF07-3AA4-4100-961F-3D332BB0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596E4-3CB5-4485-A0D7-7FAE3446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52B355-941B-408D-B0C7-FDA4CAF2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D463E3-CCFD-464F-8D75-004507B2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FA98BB-8499-4BF8-96D5-6AC52BDD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CDDAB1-ADFA-4C79-AC61-39A95984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D794C5-247D-4F29-B576-E7F501DF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539D1F-DEA5-4B99-BEA1-F38195E0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2BD78F-87B3-43DB-98B0-45BD3062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0CBEB4-A5B2-4808-9244-ACD9D199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D1CFA1-57C1-4297-910D-A73A0781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1215DB-CBE3-4325-B885-E8979223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52DD8-C5A9-45F8-AB91-3BC36451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09922D-9F8A-41ED-B7C5-5A638421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730A3F-56FB-4F82-9FDD-41B3A248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030FA5-2BAA-46EF-AE7E-E77A7DB3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10147F-A709-4D47-92F1-C4B5BBC9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17CDA8-DEFB-438B-9795-46B24C97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F502B9-EBC9-4A30-AB6D-F790E8BA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96DC3D-B2DF-49C6-A4F1-9617775F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FF7AFB-185B-4A3C-922C-996F7B56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AB9DCF-1784-4DF2-9029-731B25A8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4B1927-CE6E-496B-8BB4-E491E350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83233-C65B-42E5-AD3A-C6CDE190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67284F-BB52-4F3E-AEC3-33270E52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FE7147-E4B8-4A29-8845-847DCD04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26E58C-8442-4282-9691-A7131973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7F52FC-056D-40CD-A06A-B7F6BFF7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053996-D214-45CC-B2DA-81CFBA9E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455E6D-6AE9-442F-A91F-E1D1D671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F4F82D-493F-4BD7-9656-62F1BB9E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DF1232-D76E-4FD7-A45B-9017C11D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FEB83F-5D74-4CD1-A861-9059F578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9C99C8-3FAC-441E-9932-9ED05E02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D8E13-ABEC-4C7E-8259-3589BE1F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DA9F76-6A7E-4D39-934A-1CD1DBC2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869F7B-3C69-470D-9DA6-7B2FCC40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F50EB5-813B-4209-B901-B03D519F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AE4093-0EB8-4E0F-A8D5-80EFC4F3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FE9201-DD63-4177-A579-4573C208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82B16C-7939-43EF-BEA7-C9BA0C03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851F0A-D4AF-460B-ABA1-20C99EAD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FA867C-FC1E-4797-8A09-07E3EF0F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5852DF-9EBC-4A6D-B5F1-5A3A5CB7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126179-1111-40F2-98EC-473D6961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6A71C-DDA3-4AB2-BA46-A5C84F1E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8DF3BB-CF37-41C9-BB55-3FBCC4D3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B92041-4FF8-472F-B2AD-C5592F1D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3B7DA7-124C-4229-9F6C-FE04A96C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2E0D7A-2C19-48BC-9F81-2175CBCD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97D4EC-9CE9-4A2C-865E-E0EC74FD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07CD9A-C509-4376-89EF-B78CD709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4D5379-26F6-4086-B763-6B69D298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5D3A85-CE08-46F6-A476-294D4B79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146C03-DEE1-4427-BB0B-8A035340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8122C5-86C6-42BA-8E0E-BBEFB462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3510C-075F-459D-A15F-9A4C8B37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5A0168-75A0-42B3-8257-D825163E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2ED8FC-5F8E-48AC-ACEA-17D767F9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E566C0-8663-4947-A5FA-0DE80AE9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375E45-0AB6-4B90-8B42-0A3CCE11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13B0AB-E355-4006-B28A-CC8E76BF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DBD1D9-F16D-480A-BB73-1ECE11E6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877B61-81DD-4086-920C-47AD4167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AC0F19-2F8A-4976-8042-8A24E5C4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837092-F2CE-4FCD-A841-23894B2A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262322-FF90-4982-BC63-8812191D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8FBA9-E54E-4B55-AC9F-F7388D80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DCFCD1-DB3A-4FB7-97CD-F612D12E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A7ADF4-730D-4507-88AA-B0290FED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CAB0FD-6D20-4D62-9708-F7403C3C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8A054-4676-4134-A745-A7C1AD37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05C27-26A7-4052-A67B-85A041AB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1AB-64E1-4AFF-9015-5893EC90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DD183-8E95-4BC9-AF50-F04C557B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DF7B1-5D65-48C5-91FC-D6305003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999D0-7804-485F-920F-A7B67EF7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CA242-48D5-4F51-BEDD-AE4EBF1D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EDED3-6C89-43DD-8B85-51A48A2E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DD001-D7FB-45B8-989C-E82C1072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E0FE9-E3C1-40A5-A62C-0EAB94F7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7ECEA-ADD7-475C-9C18-8411ABB7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6B6EF-5D06-4C41-8F02-4A31B71A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DC40E-A492-4405-8973-D6CC85A6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B067-CE11-4D03-B5A8-0C42028B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DDAA0-CEC7-42BB-9F93-CDE5BA9B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ABC7B-5F09-440A-9D45-A531EA0D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F1A78-7CFB-45AA-B401-E281CB30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B8F51-C8E4-4F77-9641-ECDC3435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EE71F-D198-4C75-B81A-A509D046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9EB0C-2DD5-40C2-A8DC-DFCB416A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5885D-D6BE-4298-8A69-99AF0F6B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D38C4-BA28-4CC8-9787-A65EBFCC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85F52-7B38-4C75-8EFE-7D00A5AF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BB890-FFD3-4BF7-91A5-A0A304D7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BCC0-46B7-4725-BFCC-92F85055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CBC59-E677-4E2C-9EE0-A7F2AD2F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59084-359A-46B9-8F6E-C18954A4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70898-D0F0-4357-B27B-A0C43D45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3D100-5377-4EAF-AF6F-ABE928E9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DEDAA-924A-4BF6-B2E4-D5EAB97C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33CFA-5A93-4FDA-BF81-DF8E429E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34B5E-9BD3-4F5F-8AC5-D3CA66EE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DAB84-8B71-477F-98BE-167D0732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EF535-0355-4F36-8426-1F504AFE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E92DA-5DB8-461A-AE9E-DC30A351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EE6-2B89-47DA-9898-08173229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A5166-081E-40B7-8900-D88EC20D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361AA-11A7-4648-B5CB-5128EF02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3AE4D-FD93-48EC-A20F-30D6F17F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42D3C-F1E0-47FD-B791-2F5099B5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DB577-A2E5-4646-9999-82A70BE6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E0466-9050-4E9E-BF04-0CD72005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D835F-0772-4526-99D8-1F2FE04A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8F6C2-78B9-4DB2-B658-9FAEA3E1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1130B-7976-42CE-B8CB-0A3832E2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593BF-7E5F-4D18-8440-EFA6870D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A52-ED90-4658-AA8F-42D876F7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EFFA9-77CC-4B43-9405-9C9138A5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CF6F4-390D-4AD1-8821-9C09A04A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DE064-B826-48AF-92E8-B6986D97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8797C-E489-48F3-B026-A5B400DF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B022E-EC2C-42FB-AA57-339AB2BC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BBC8B-2093-4157-B5DA-EB11F45B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12DD5-189D-400B-B1FB-DA253F7B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57987-0AD2-45FD-B073-A63D63FC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7B129-C009-49E9-804B-F2511653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349E2-B822-47DE-A03F-373AB9FC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F385-4ADB-4CC6-AAA5-FBDCC8FA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1678C-6BB4-4787-85DE-31141812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BD0B0-A38E-4AD6-BBE7-11DCC075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8BEB4-4B84-4A76-825C-59A85BB1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58824-14A6-46D9-B535-A724E275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6AD17-DCE0-4A86-BCC1-EEF907C9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6D367-DBCA-45B7-8204-A0BF7676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8DD71-9CC2-4807-936E-F84E18D8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90185-3DD6-4500-8355-78E12660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7DF7B-8BDA-4FD1-8F9F-56D9B64F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C463C-AA8E-401B-970D-477D80BC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0F3C-4EB1-4E7C-A514-EFE2A7589F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F21A-E613-4140-8C2D-92A2E43749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EFF7-E0E6-48E1-8FB5-B5DD133E7B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9568-D986-4D0B-846F-108710C20A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7419-441D-4C3C-88AC-9D30B2E98C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D7BC-EBF1-4797-B65C-0CBD891D5D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4C7E-0F78-439F-9151-30CF6965E0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FFE9-3882-43EA-9D0D-C40A3CA8BA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57E9-C8D9-4F76-8502-95A0E60071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DA31-D8AC-4FC1-A78D-2E06D988ED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52AB-DEA8-498D-9BA0-EC7FE1E441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86DE-192D-4F7A-B65D-8310795C35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D60D-139F-450A-BFF4-67E1AA6C40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25C8-A0C3-4696-84AA-5D7D05B6A0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8BCD-2EA8-4B28-A599-6450530169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6997-32F0-4B7F-B885-DE6AB5A8F5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7B1F-FAB5-4475-A9E8-3827642BD2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F160-6F6B-447C-BD4C-0E377D40A0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A341-8D32-48E3-9628-EBF7AD964D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E9E6-0CAD-48F0-98A9-99CAC9B9AD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1CC1-989C-4339-B965-920EE62C7A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90CC-4379-4465-9451-19DCE3F82F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3538-5E2E-45C5-9018-57D430B102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EEAB-23F5-4CA7-9D82-FF33B908DA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C977-9F91-4E65-8523-C27EECF52A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DE81-14E0-465B-A676-6B9C3277BA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2D16-CBBF-4842-8DC3-7DD00D0747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CC8E-205B-4AAC-896C-C802307E7C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43B5-39CB-4379-B76A-106BFFD533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C385-54A4-495A-BB8E-5B1A84DD86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7819-3FC7-4333-9D81-2634FC3EAC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F4DD-9F1A-467B-9894-4EB5294EE3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270C-7823-46FC-80E0-F560BFB5E7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8604-EC85-4C9C-9947-A597C639B0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1B5D-0C8C-4ADD-9BF0-8CD59BD3C1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6D84-4E87-4C73-B596-5F2727108E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9156-E3AE-4300-9B0D-B0D529FD80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F31D-50E3-4298-AA77-49D20D47FD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A165-243A-4DAC-B084-D6109C32E6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0732-5317-4D7C-BE12-940FBCD916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2C4F-48DD-4661-82A5-376719118C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2FCF-A2CA-497A-900A-B3B6DBB62F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D82D-2FCF-48E3-9CAE-CABAF74DC2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17A3-3EA0-4EBE-BFAB-429D709D4C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5019-9929-483C-8078-7CBD91D177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E297-66CC-4D98-A666-7B563B4B52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EA60-DE6B-41C9-8887-9E5E6A413E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6DE6-0592-4F7E-97E9-8BBEFA7812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3FD1-5282-4818-ABE9-D2C1310C13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7933-68B7-4B88-A4DF-2CBB62E0AC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571840" y="2109960"/>
            <a:ext cx="4095720" cy="71424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895320" y="3071880"/>
            <a:ext cx="7353360" cy="71424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3102120" y="4078440"/>
            <a:ext cx="27716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116737" descr=""/>
          <p:cNvPicPr/>
          <p:nvPr/>
        </p:nvPicPr>
        <p:blipFill>
          <a:blip r:embed="rId1"/>
          <a:stretch/>
        </p:blipFill>
        <p:spPr>
          <a:xfrm>
            <a:off x="561960" y="1285920"/>
            <a:ext cx="8020080" cy="4286160"/>
          </a:xfrm>
          <a:prstGeom prst="rect">
            <a:avLst/>
          </a:prstGeom>
          <a:ln w="0">
            <a:noFill/>
          </a:ln>
        </p:spPr>
      </p:pic>
      <p:sp>
        <p:nvSpPr>
          <p:cNvPr id="1455" name="矩形 116738"/>
          <p:cNvSpPr/>
          <p:nvPr/>
        </p:nvSpPr>
        <p:spPr>
          <a:xfrm>
            <a:off x="6124680" y="2952720"/>
            <a:ext cx="857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16739"/>
          <p:cNvSpPr/>
          <p:nvPr/>
        </p:nvSpPr>
        <p:spPr>
          <a:xfrm>
            <a:off x="3112920" y="4043520"/>
            <a:ext cx="3610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16740"/>
          <p:cNvSpPr/>
          <p:nvPr/>
        </p:nvSpPr>
        <p:spPr>
          <a:xfrm>
            <a:off x="7083360" y="4610160"/>
            <a:ext cx="1247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15713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010720" cy="4533840"/>
          </a:xfrm>
          <a:prstGeom prst="rect">
            <a:avLst/>
          </a:prstGeom>
          <a:ln w="0">
            <a:noFill/>
          </a:ln>
        </p:spPr>
      </p:pic>
      <p:sp>
        <p:nvSpPr>
          <p:cNvPr id="1459" name="矩形 115714"/>
          <p:cNvSpPr/>
          <p:nvPr/>
        </p:nvSpPr>
        <p:spPr>
          <a:xfrm>
            <a:off x="6648480" y="1762200"/>
            <a:ext cx="18860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15715"/>
          <p:cNvSpPr/>
          <p:nvPr/>
        </p:nvSpPr>
        <p:spPr>
          <a:xfrm>
            <a:off x="1692360" y="2276640"/>
            <a:ext cx="1085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15716"/>
          <p:cNvSpPr/>
          <p:nvPr/>
        </p:nvSpPr>
        <p:spPr>
          <a:xfrm>
            <a:off x="6948360" y="2852640"/>
            <a:ext cx="1562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5717"/>
          <p:cNvSpPr/>
          <p:nvPr/>
        </p:nvSpPr>
        <p:spPr>
          <a:xfrm>
            <a:off x="1628640" y="3395520"/>
            <a:ext cx="4096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5718"/>
          <p:cNvSpPr/>
          <p:nvPr/>
        </p:nvSpPr>
        <p:spPr>
          <a:xfrm>
            <a:off x="5187960" y="4529160"/>
            <a:ext cx="3295800" cy="54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5719"/>
          <p:cNvSpPr/>
          <p:nvPr/>
        </p:nvSpPr>
        <p:spPr>
          <a:xfrm>
            <a:off x="1609560" y="5248440"/>
            <a:ext cx="12290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4689" descr=""/>
          <p:cNvPicPr/>
          <p:nvPr/>
        </p:nvPicPr>
        <p:blipFill>
          <a:blip r:embed="rId1"/>
          <a:stretch/>
        </p:blipFill>
        <p:spPr>
          <a:xfrm>
            <a:off x="409680" y="752400"/>
            <a:ext cx="7943760" cy="876240"/>
          </a:xfrm>
          <a:prstGeom prst="rect">
            <a:avLst/>
          </a:prstGeom>
          <a:ln w="0">
            <a:noFill/>
          </a:ln>
        </p:spPr>
      </p:pic>
      <p:pic>
        <p:nvPicPr>
          <p:cNvPr id="1466" name="图片 114690" descr=""/>
          <p:cNvPicPr/>
          <p:nvPr/>
        </p:nvPicPr>
        <p:blipFill>
          <a:blip r:embed="rId2"/>
          <a:stretch/>
        </p:blipFill>
        <p:spPr>
          <a:xfrm>
            <a:off x="919080" y="1743120"/>
            <a:ext cx="4543560" cy="399960"/>
          </a:xfrm>
          <a:prstGeom prst="rect">
            <a:avLst/>
          </a:prstGeom>
          <a:ln w="0">
            <a:noFill/>
          </a:ln>
        </p:spPr>
      </p:pic>
      <p:pic>
        <p:nvPicPr>
          <p:cNvPr id="1467" name="图片 114691" descr=""/>
          <p:cNvPicPr/>
          <p:nvPr/>
        </p:nvPicPr>
        <p:blipFill>
          <a:blip r:embed="rId3"/>
          <a:stretch/>
        </p:blipFill>
        <p:spPr>
          <a:xfrm>
            <a:off x="946080" y="2335320"/>
            <a:ext cx="737244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13665" descr=""/>
          <p:cNvPicPr/>
          <p:nvPr/>
        </p:nvPicPr>
        <p:blipFill>
          <a:blip r:embed="rId1"/>
          <a:stretch/>
        </p:blipFill>
        <p:spPr>
          <a:xfrm>
            <a:off x="843120" y="1643040"/>
            <a:ext cx="7457760" cy="3571920"/>
          </a:xfrm>
          <a:prstGeom prst="rect">
            <a:avLst/>
          </a:prstGeom>
          <a:ln w="0">
            <a:noFill/>
          </a:ln>
        </p:spPr>
      </p:pic>
      <p:sp>
        <p:nvSpPr>
          <p:cNvPr id="1469" name="矩形 113666"/>
          <p:cNvSpPr/>
          <p:nvPr/>
        </p:nvSpPr>
        <p:spPr>
          <a:xfrm>
            <a:off x="7067520" y="1609560"/>
            <a:ext cx="1209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3667"/>
          <p:cNvSpPr/>
          <p:nvPr/>
        </p:nvSpPr>
        <p:spPr>
          <a:xfrm>
            <a:off x="1403280" y="2133720"/>
            <a:ext cx="2171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3668"/>
          <p:cNvSpPr/>
          <p:nvPr/>
        </p:nvSpPr>
        <p:spPr>
          <a:xfrm>
            <a:off x="4932360" y="2684520"/>
            <a:ext cx="111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3669"/>
          <p:cNvSpPr/>
          <p:nvPr/>
        </p:nvSpPr>
        <p:spPr>
          <a:xfrm>
            <a:off x="6372360" y="3213000"/>
            <a:ext cx="1895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3670"/>
          <p:cNvSpPr/>
          <p:nvPr/>
        </p:nvSpPr>
        <p:spPr>
          <a:xfrm>
            <a:off x="1332000" y="3716280"/>
            <a:ext cx="3533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3671"/>
          <p:cNvSpPr/>
          <p:nvPr/>
        </p:nvSpPr>
        <p:spPr>
          <a:xfrm>
            <a:off x="5565600" y="4230720"/>
            <a:ext cx="2524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3672"/>
          <p:cNvSpPr/>
          <p:nvPr/>
        </p:nvSpPr>
        <p:spPr>
          <a:xfrm>
            <a:off x="1346040" y="4734000"/>
            <a:ext cx="20480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112641" descr=""/>
          <p:cNvPicPr/>
          <p:nvPr/>
        </p:nvPicPr>
        <p:blipFill>
          <a:blip r:embed="rId1"/>
          <a:stretch/>
        </p:blipFill>
        <p:spPr>
          <a:xfrm>
            <a:off x="585720" y="1390680"/>
            <a:ext cx="7972560" cy="4076640"/>
          </a:xfrm>
          <a:prstGeom prst="rect">
            <a:avLst/>
          </a:prstGeom>
          <a:ln w="0">
            <a:noFill/>
          </a:ln>
        </p:spPr>
      </p:pic>
      <p:sp>
        <p:nvSpPr>
          <p:cNvPr id="1477" name="矩形 112642"/>
          <p:cNvSpPr/>
          <p:nvPr/>
        </p:nvSpPr>
        <p:spPr>
          <a:xfrm>
            <a:off x="6114960" y="2428920"/>
            <a:ext cx="4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111617" descr=""/>
          <p:cNvPicPr/>
          <p:nvPr/>
        </p:nvPicPr>
        <p:blipFill>
          <a:blip r:embed="rId1"/>
          <a:stretch/>
        </p:blipFill>
        <p:spPr>
          <a:xfrm>
            <a:off x="885960" y="1905120"/>
            <a:ext cx="7372080" cy="3047760"/>
          </a:xfrm>
          <a:prstGeom prst="rect">
            <a:avLst/>
          </a:prstGeom>
          <a:ln w="0">
            <a:noFill/>
          </a:ln>
        </p:spPr>
      </p:pic>
      <p:sp>
        <p:nvSpPr>
          <p:cNvPr id="1479" name="矩形 111618"/>
          <p:cNvSpPr/>
          <p:nvPr/>
        </p:nvSpPr>
        <p:spPr>
          <a:xfrm>
            <a:off x="2009880" y="2419200"/>
            <a:ext cx="5362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1619"/>
          <p:cNvSpPr/>
          <p:nvPr/>
        </p:nvSpPr>
        <p:spPr>
          <a:xfrm>
            <a:off x="1908000" y="2924280"/>
            <a:ext cx="5362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1620"/>
          <p:cNvSpPr/>
          <p:nvPr/>
        </p:nvSpPr>
        <p:spPr>
          <a:xfrm>
            <a:off x="1835280" y="3986280"/>
            <a:ext cx="53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1621"/>
          <p:cNvSpPr/>
          <p:nvPr/>
        </p:nvSpPr>
        <p:spPr>
          <a:xfrm>
            <a:off x="1994040" y="4508640"/>
            <a:ext cx="6000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110593" descr=""/>
          <p:cNvPicPr/>
          <p:nvPr/>
        </p:nvPicPr>
        <p:blipFill>
          <a:blip r:embed="rId1"/>
          <a:stretch/>
        </p:blipFill>
        <p:spPr>
          <a:xfrm>
            <a:off x="590400" y="1009800"/>
            <a:ext cx="7963200" cy="4838400"/>
          </a:xfrm>
          <a:prstGeom prst="rect">
            <a:avLst/>
          </a:prstGeom>
          <a:ln w="0">
            <a:noFill/>
          </a:ln>
        </p:spPr>
      </p:pic>
      <p:sp>
        <p:nvSpPr>
          <p:cNvPr id="1484" name="矩形 110594"/>
          <p:cNvSpPr/>
          <p:nvPr/>
        </p:nvSpPr>
        <p:spPr>
          <a:xfrm>
            <a:off x="2610000" y="3610080"/>
            <a:ext cx="819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0595"/>
          <p:cNvSpPr/>
          <p:nvPr/>
        </p:nvSpPr>
        <p:spPr>
          <a:xfrm>
            <a:off x="4643280" y="3616200"/>
            <a:ext cx="576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0596"/>
          <p:cNvSpPr/>
          <p:nvPr/>
        </p:nvSpPr>
        <p:spPr>
          <a:xfrm>
            <a:off x="6516720" y="3602160"/>
            <a:ext cx="1781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0597"/>
          <p:cNvSpPr/>
          <p:nvPr/>
        </p:nvSpPr>
        <p:spPr>
          <a:xfrm>
            <a:off x="2719440" y="412416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10598"/>
          <p:cNvSpPr/>
          <p:nvPr/>
        </p:nvSpPr>
        <p:spPr>
          <a:xfrm>
            <a:off x="7740720" y="4653000"/>
            <a:ext cx="819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0599"/>
          <p:cNvSpPr/>
          <p:nvPr/>
        </p:nvSpPr>
        <p:spPr>
          <a:xfrm>
            <a:off x="1619280" y="5192640"/>
            <a:ext cx="300996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109569" descr=""/>
          <p:cNvPicPr/>
          <p:nvPr/>
        </p:nvPicPr>
        <p:blipFill>
          <a:blip r:embed="rId1"/>
          <a:stretch/>
        </p:blipFill>
        <p:spPr>
          <a:xfrm>
            <a:off x="423720" y="757080"/>
            <a:ext cx="7972560" cy="2810160"/>
          </a:xfrm>
          <a:prstGeom prst="rect">
            <a:avLst/>
          </a:prstGeom>
          <a:ln w="0">
            <a:noFill/>
          </a:ln>
        </p:spPr>
      </p:pic>
      <p:pic>
        <p:nvPicPr>
          <p:cNvPr id="1491" name="图片 109570" descr=""/>
          <p:cNvPicPr/>
          <p:nvPr/>
        </p:nvPicPr>
        <p:blipFill>
          <a:blip r:embed="rId2"/>
          <a:stretch/>
        </p:blipFill>
        <p:spPr>
          <a:xfrm>
            <a:off x="979560" y="3875040"/>
            <a:ext cx="7362720" cy="2714760"/>
          </a:xfrm>
          <a:prstGeom prst="rect">
            <a:avLst/>
          </a:prstGeom>
          <a:ln w="0">
            <a:noFill/>
          </a:ln>
        </p:spPr>
      </p:pic>
      <p:sp>
        <p:nvSpPr>
          <p:cNvPr id="1492" name="矩形 109571"/>
          <p:cNvSpPr/>
          <p:nvPr/>
        </p:nvSpPr>
        <p:spPr>
          <a:xfrm>
            <a:off x="1657440" y="4381560"/>
            <a:ext cx="6724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09572"/>
          <p:cNvSpPr/>
          <p:nvPr/>
        </p:nvSpPr>
        <p:spPr>
          <a:xfrm>
            <a:off x="1438200" y="4896000"/>
            <a:ext cx="4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09573"/>
          <p:cNvSpPr/>
          <p:nvPr/>
        </p:nvSpPr>
        <p:spPr>
          <a:xfrm>
            <a:off x="4716360" y="4888080"/>
            <a:ext cx="9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09574"/>
          <p:cNvSpPr/>
          <p:nvPr/>
        </p:nvSpPr>
        <p:spPr>
          <a:xfrm>
            <a:off x="7524720" y="5411880"/>
            <a:ext cx="942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09575"/>
          <p:cNvSpPr/>
          <p:nvPr/>
        </p:nvSpPr>
        <p:spPr>
          <a:xfrm>
            <a:off x="1403280" y="5956200"/>
            <a:ext cx="5715000" cy="55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图片 108545" descr=""/>
          <p:cNvPicPr/>
          <p:nvPr/>
        </p:nvPicPr>
        <p:blipFill>
          <a:blip r:embed="rId1"/>
          <a:stretch/>
        </p:blipFill>
        <p:spPr>
          <a:xfrm>
            <a:off x="890640" y="1771560"/>
            <a:ext cx="7362720" cy="3314880"/>
          </a:xfrm>
          <a:prstGeom prst="rect">
            <a:avLst/>
          </a:prstGeom>
          <a:ln w="0">
            <a:noFill/>
          </a:ln>
        </p:spPr>
      </p:pic>
      <p:sp>
        <p:nvSpPr>
          <p:cNvPr id="1498" name="矩形 108546"/>
          <p:cNvSpPr/>
          <p:nvPr/>
        </p:nvSpPr>
        <p:spPr>
          <a:xfrm>
            <a:off x="1971720" y="3562200"/>
            <a:ext cx="2600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08547"/>
          <p:cNvSpPr/>
          <p:nvPr/>
        </p:nvSpPr>
        <p:spPr>
          <a:xfrm>
            <a:off x="6585120" y="3548160"/>
            <a:ext cx="1666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08548"/>
          <p:cNvSpPr/>
          <p:nvPr/>
        </p:nvSpPr>
        <p:spPr>
          <a:xfrm>
            <a:off x="1332000" y="4076640"/>
            <a:ext cx="3895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08549"/>
          <p:cNvSpPr/>
          <p:nvPr/>
        </p:nvSpPr>
        <p:spPr>
          <a:xfrm>
            <a:off x="3192480" y="4591080"/>
            <a:ext cx="1666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图片 107521" descr=""/>
          <p:cNvPicPr/>
          <p:nvPr/>
        </p:nvPicPr>
        <p:blipFill>
          <a:blip r:embed="rId1"/>
          <a:stretch/>
        </p:blipFill>
        <p:spPr>
          <a:xfrm>
            <a:off x="585720" y="2185920"/>
            <a:ext cx="79725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29" descr=""/>
          <p:cNvPicPr/>
          <p:nvPr/>
        </p:nvPicPr>
        <p:blipFill>
          <a:blip r:embed="rId1"/>
          <a:stretch/>
        </p:blipFill>
        <p:spPr>
          <a:xfrm>
            <a:off x="576360" y="1566720"/>
            <a:ext cx="7991280" cy="372456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4930"/>
          <p:cNvSpPr/>
          <p:nvPr/>
        </p:nvSpPr>
        <p:spPr>
          <a:xfrm>
            <a:off x="7829640" y="2666880"/>
            <a:ext cx="40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1"/>
          <p:cNvSpPr/>
          <p:nvPr/>
        </p:nvSpPr>
        <p:spPr>
          <a:xfrm>
            <a:off x="7812000" y="4365720"/>
            <a:ext cx="4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图片 106498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439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图片 125953" descr=""/>
          <p:cNvPicPr/>
          <p:nvPr/>
        </p:nvPicPr>
        <p:blipFill>
          <a:blip r:embed="rId1"/>
          <a:stretch/>
        </p:blipFill>
        <p:spPr>
          <a:xfrm>
            <a:off x="900000" y="1657440"/>
            <a:ext cx="7344000" cy="3543120"/>
          </a:xfrm>
          <a:prstGeom prst="rect">
            <a:avLst/>
          </a:prstGeom>
          <a:ln w="0">
            <a:noFill/>
          </a:ln>
        </p:spPr>
      </p:pic>
      <p:sp>
        <p:nvSpPr>
          <p:cNvPr id="1505" name="矩形 125954"/>
          <p:cNvSpPr/>
          <p:nvPr/>
        </p:nvSpPr>
        <p:spPr>
          <a:xfrm>
            <a:off x="3800520" y="1600200"/>
            <a:ext cx="4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25955"/>
          <p:cNvSpPr/>
          <p:nvPr/>
        </p:nvSpPr>
        <p:spPr>
          <a:xfrm>
            <a:off x="1758960" y="2698920"/>
            <a:ext cx="4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25956"/>
          <p:cNvSpPr/>
          <p:nvPr/>
        </p:nvSpPr>
        <p:spPr>
          <a:xfrm>
            <a:off x="6516720" y="3745080"/>
            <a:ext cx="847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8" name="图片 126977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410600" cy="5286240"/>
          </a:xfrm>
          <a:prstGeom prst="rect">
            <a:avLst/>
          </a:prstGeom>
          <a:ln w="0">
            <a:noFill/>
          </a:ln>
        </p:spPr>
      </p:pic>
      <p:sp>
        <p:nvSpPr>
          <p:cNvPr id="1509" name="矩形 126978"/>
          <p:cNvSpPr/>
          <p:nvPr/>
        </p:nvSpPr>
        <p:spPr>
          <a:xfrm>
            <a:off x="1857240" y="1324080"/>
            <a:ext cx="4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26979"/>
          <p:cNvSpPr/>
          <p:nvPr/>
        </p:nvSpPr>
        <p:spPr>
          <a:xfrm>
            <a:off x="5435640" y="1844640"/>
            <a:ext cx="2314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126980"/>
          <p:cNvSpPr/>
          <p:nvPr/>
        </p:nvSpPr>
        <p:spPr>
          <a:xfrm>
            <a:off x="3405240" y="3459240"/>
            <a:ext cx="420984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126981"/>
          <p:cNvSpPr/>
          <p:nvPr/>
        </p:nvSpPr>
        <p:spPr>
          <a:xfrm>
            <a:off x="5343480" y="5143680"/>
            <a:ext cx="4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123906" descr=""/>
          <p:cNvPicPr/>
          <p:nvPr/>
        </p:nvPicPr>
        <p:blipFill>
          <a:blip r:embed="rId1"/>
          <a:stretch/>
        </p:blipFill>
        <p:spPr>
          <a:xfrm>
            <a:off x="571680" y="1557360"/>
            <a:ext cx="8001000" cy="3743280"/>
          </a:xfrm>
          <a:prstGeom prst="rect">
            <a:avLst/>
          </a:prstGeom>
          <a:ln w="0">
            <a:noFill/>
          </a:ln>
        </p:spPr>
      </p:pic>
      <p:sp>
        <p:nvSpPr>
          <p:cNvPr id="1439" name="矩形 123907"/>
          <p:cNvSpPr/>
          <p:nvPr/>
        </p:nvSpPr>
        <p:spPr>
          <a:xfrm>
            <a:off x="7829640" y="2666880"/>
            <a:ext cx="40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122881" descr=""/>
          <p:cNvPicPr/>
          <p:nvPr/>
        </p:nvPicPr>
        <p:blipFill>
          <a:blip r:embed="rId1"/>
          <a:stretch/>
        </p:blipFill>
        <p:spPr>
          <a:xfrm>
            <a:off x="495360" y="2138400"/>
            <a:ext cx="8153280" cy="2581200"/>
          </a:xfrm>
          <a:prstGeom prst="rect">
            <a:avLst/>
          </a:prstGeom>
          <a:ln w="0">
            <a:noFill/>
          </a:ln>
        </p:spPr>
      </p:pic>
      <p:sp>
        <p:nvSpPr>
          <p:cNvPr id="1441" name="矩形 122882"/>
          <p:cNvSpPr/>
          <p:nvPr/>
        </p:nvSpPr>
        <p:spPr>
          <a:xfrm>
            <a:off x="7810560" y="2124000"/>
            <a:ext cx="4096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121857" descr=""/>
          <p:cNvPicPr/>
          <p:nvPr/>
        </p:nvPicPr>
        <p:blipFill>
          <a:blip r:embed="rId1"/>
          <a:stretch/>
        </p:blipFill>
        <p:spPr>
          <a:xfrm>
            <a:off x="571680" y="1590840"/>
            <a:ext cx="8001000" cy="3676320"/>
          </a:xfrm>
          <a:prstGeom prst="rect">
            <a:avLst/>
          </a:prstGeom>
          <a:ln w="0">
            <a:noFill/>
          </a:ln>
        </p:spPr>
      </p:pic>
      <p:sp>
        <p:nvSpPr>
          <p:cNvPr id="1443" name="矩形 121858"/>
          <p:cNvSpPr/>
          <p:nvPr/>
        </p:nvSpPr>
        <p:spPr>
          <a:xfrm>
            <a:off x="7772400" y="2162160"/>
            <a:ext cx="4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0833" descr=""/>
          <p:cNvPicPr/>
          <p:nvPr/>
        </p:nvPicPr>
        <p:blipFill>
          <a:blip r:embed="rId1"/>
          <a:stretch/>
        </p:blipFill>
        <p:spPr>
          <a:xfrm>
            <a:off x="530280" y="746280"/>
            <a:ext cx="8010360" cy="5810040"/>
          </a:xfrm>
          <a:prstGeom prst="rect">
            <a:avLst/>
          </a:prstGeom>
          <a:ln w="0">
            <a:noFill/>
          </a:ln>
        </p:spPr>
      </p:pic>
      <p:sp>
        <p:nvSpPr>
          <p:cNvPr id="1445" name="矩形 120834"/>
          <p:cNvSpPr/>
          <p:nvPr/>
        </p:nvSpPr>
        <p:spPr>
          <a:xfrm>
            <a:off x="7753320" y="1247760"/>
            <a:ext cx="4096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0835"/>
          <p:cNvSpPr/>
          <p:nvPr/>
        </p:nvSpPr>
        <p:spPr>
          <a:xfrm>
            <a:off x="7740720" y="4005360"/>
            <a:ext cx="4096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119809" descr=""/>
          <p:cNvPicPr/>
          <p:nvPr/>
        </p:nvPicPr>
        <p:blipFill>
          <a:blip r:embed="rId1"/>
          <a:stretch/>
        </p:blipFill>
        <p:spPr>
          <a:xfrm>
            <a:off x="581040" y="1714680"/>
            <a:ext cx="7962840" cy="914400"/>
          </a:xfrm>
          <a:prstGeom prst="rect">
            <a:avLst/>
          </a:prstGeom>
          <a:ln w="0">
            <a:noFill/>
          </a:ln>
        </p:spPr>
      </p:pic>
      <p:pic>
        <p:nvPicPr>
          <p:cNvPr id="1448" name="图片 119810" descr=""/>
          <p:cNvPicPr/>
          <p:nvPr/>
        </p:nvPicPr>
        <p:blipFill>
          <a:blip r:embed="rId2"/>
          <a:stretch/>
        </p:blipFill>
        <p:spPr>
          <a:xfrm>
            <a:off x="1049400" y="2797200"/>
            <a:ext cx="4705200" cy="150480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19811"/>
          <p:cNvSpPr/>
          <p:nvPr/>
        </p:nvSpPr>
        <p:spPr>
          <a:xfrm>
            <a:off x="7839000" y="1714680"/>
            <a:ext cx="4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18785" descr=""/>
          <p:cNvPicPr/>
          <p:nvPr/>
        </p:nvPicPr>
        <p:blipFill>
          <a:blip r:embed="rId1"/>
          <a:stretch/>
        </p:blipFill>
        <p:spPr>
          <a:xfrm>
            <a:off x="581040" y="1486080"/>
            <a:ext cx="7981920" cy="388620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18786"/>
          <p:cNvSpPr/>
          <p:nvPr/>
        </p:nvSpPr>
        <p:spPr>
          <a:xfrm>
            <a:off x="7858080" y="2028960"/>
            <a:ext cx="4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17761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962840" cy="535320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17762"/>
          <p:cNvSpPr/>
          <p:nvPr/>
        </p:nvSpPr>
        <p:spPr>
          <a:xfrm>
            <a:off x="7743960" y="1400040"/>
            <a:ext cx="40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1:28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